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6.wmf" ContentType="image/x-wmf"/>
  <Override PartName="/ppt/media/image23.png" ContentType="image/png"/>
  <Override PartName="/ppt/media/image22.wmf" ContentType="image/x-wmf"/>
  <Override PartName="/ppt/media/image20.jpeg" ContentType="image/jpeg"/>
  <Override PartName="/ppt/media/image21.png" ContentType="image/png"/>
  <Override PartName="/ppt/media/image19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9.png" ContentType="image/png"/>
  <Override PartName="/ppt/media/image11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31.wmf" ContentType="image/x-wmf"/>
  <Override PartName="/ppt/media/image3.png" ContentType="image/png"/>
  <Override PartName="/ppt/media/image33.png" ContentType="image/png"/>
  <Override PartName="/ppt/media/image8.png" ContentType="image/png"/>
  <Override PartName="/ppt/media/image32.wmf" ContentType="image/x-wmf"/>
  <Override PartName="/ppt/media/image12.wmf" ContentType="image/x-wmf"/>
  <Override PartName="/ppt/media/image13.png" ContentType="image/png"/>
  <Override PartName="/ppt/media/image36.wmf" ContentType="image/x-wmf"/>
  <Override PartName="/ppt/media/image38.wmf" ContentType="image/x-wmf"/>
  <Override PartName="/ppt/media/image40.wmf" ContentType="image/x-wmf"/>
  <Override PartName="/ppt/media/image39.wmf" ContentType="image/x-wmf"/>
  <Override PartName="/ppt/media/image7.wmf" ContentType="image/x-wmf"/>
  <Override PartName="/ppt/media/image37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15.png" ContentType="image/png"/>
  <Override PartName="/ppt/media/image14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2.png" ContentType="image/png"/>
  <Override PartName="/ppt/media/image25.png" ContentType="image/png"/>
  <Override PartName="/ppt/media/image24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  <p:sldId id="283" r:id="rId48"/>
    <p:sldId id="284" r:id="rId49"/>
    <p:sldId id="285" r:id="rId50"/>
    <p:sldId id="286" r:id="rId51"/>
    <p:sldId id="287" r:id="rId52"/>
    <p:sldId id="288" r:id="rId53"/>
    <p:sldId id="289" r:id="rId54"/>
    <p:sldId id="290" r:id="rId55"/>
    <p:sldId id="291" r:id="rId56"/>
    <p:sldId id="292" r:id="rId57"/>
    <p:sldId id="293" r:id="rId58"/>
    <p:sldId id="294" r:id="rId59"/>
    <p:sldId id="295" r:id="rId60"/>
    <p:sldId id="296" r:id="rId61"/>
    <p:sldId id="297" r:id="rId62"/>
    <p:sldId id="298" r:id="rId63"/>
    <p:sldId id="299" r:id="rId64"/>
    <p:sldId id="300" r:id="rId65"/>
    <p:sldId id="301" r:id="rId66"/>
    <p:sldId id="302" r:id="rId67"/>
    <p:sldId id="303" r:id="rId68"/>
    <p:sldId id="304" r:id="rId69"/>
    <p:sldId id="305" r:id="rId70"/>
    <p:sldId id="306" r:id="rId71"/>
    <p:sldId id="307" r:id="rId72"/>
    <p:sldId id="308" r:id="rId73"/>
    <p:sldId id="309" r:id="rId74"/>
    <p:sldId id="310" r:id="rId75"/>
    <p:sldId id="311" r:id="rId76"/>
    <p:sldId id="312" r:id="rId77"/>
    <p:sldId id="313" r:id="rId78"/>
  </p:sldIdLst>
  <p:sldSz cx="9902825" cy="6858000"/>
  <p:notesSz cx="6792913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slide" Target="slides/slide28.xml"/><Relationship Id="rId49" Type="http://schemas.openxmlformats.org/officeDocument/2006/relationships/slide" Target="slides/slide29.xml"/><Relationship Id="rId50" Type="http://schemas.openxmlformats.org/officeDocument/2006/relationships/slide" Target="slides/slide30.xml"/><Relationship Id="rId51" Type="http://schemas.openxmlformats.org/officeDocument/2006/relationships/slide" Target="slides/slide31.xml"/><Relationship Id="rId52" Type="http://schemas.openxmlformats.org/officeDocument/2006/relationships/slide" Target="slides/slide32.xml"/><Relationship Id="rId53" Type="http://schemas.openxmlformats.org/officeDocument/2006/relationships/slide" Target="slides/slide33.xml"/><Relationship Id="rId54" Type="http://schemas.openxmlformats.org/officeDocument/2006/relationships/slide" Target="slides/slide34.xml"/><Relationship Id="rId55" Type="http://schemas.openxmlformats.org/officeDocument/2006/relationships/slide" Target="slides/slide35.xml"/><Relationship Id="rId56" Type="http://schemas.openxmlformats.org/officeDocument/2006/relationships/slide" Target="slides/slide36.xml"/><Relationship Id="rId57" Type="http://schemas.openxmlformats.org/officeDocument/2006/relationships/slide" Target="slides/slide37.xml"/><Relationship Id="rId58" Type="http://schemas.openxmlformats.org/officeDocument/2006/relationships/slide" Target="slides/slide38.xml"/><Relationship Id="rId59" Type="http://schemas.openxmlformats.org/officeDocument/2006/relationships/slide" Target="slides/slide39.xml"/><Relationship Id="rId60" Type="http://schemas.openxmlformats.org/officeDocument/2006/relationships/slide" Target="slides/slide40.xml"/><Relationship Id="rId61" Type="http://schemas.openxmlformats.org/officeDocument/2006/relationships/slide" Target="slides/slide41.xml"/><Relationship Id="rId62" Type="http://schemas.openxmlformats.org/officeDocument/2006/relationships/slide" Target="slides/slide42.xml"/><Relationship Id="rId63" Type="http://schemas.openxmlformats.org/officeDocument/2006/relationships/slide" Target="slides/slide43.xml"/><Relationship Id="rId64" Type="http://schemas.openxmlformats.org/officeDocument/2006/relationships/slide" Target="slides/slide44.xml"/><Relationship Id="rId65" Type="http://schemas.openxmlformats.org/officeDocument/2006/relationships/slide" Target="slides/slide45.xml"/><Relationship Id="rId66" Type="http://schemas.openxmlformats.org/officeDocument/2006/relationships/slide" Target="slides/slide46.xml"/><Relationship Id="rId67" Type="http://schemas.openxmlformats.org/officeDocument/2006/relationships/slide" Target="slides/slide47.xml"/><Relationship Id="rId68" Type="http://schemas.openxmlformats.org/officeDocument/2006/relationships/slide" Target="slides/slide48.xml"/><Relationship Id="rId69" Type="http://schemas.openxmlformats.org/officeDocument/2006/relationships/slide" Target="slides/slide49.xml"/><Relationship Id="rId70" Type="http://schemas.openxmlformats.org/officeDocument/2006/relationships/slide" Target="slides/slide50.xml"/><Relationship Id="rId71" Type="http://schemas.openxmlformats.org/officeDocument/2006/relationships/slide" Target="slides/slide51.xml"/><Relationship Id="rId72" Type="http://schemas.openxmlformats.org/officeDocument/2006/relationships/slide" Target="slides/slide52.xml"/><Relationship Id="rId73" Type="http://schemas.openxmlformats.org/officeDocument/2006/relationships/slide" Target="slides/slide53.xml"/><Relationship Id="rId74" Type="http://schemas.openxmlformats.org/officeDocument/2006/relationships/slide" Target="slides/slide54.xml"/><Relationship Id="rId75" Type="http://schemas.openxmlformats.org/officeDocument/2006/relationships/slide" Target="slides/slide55.xml"/><Relationship Id="rId76" Type="http://schemas.openxmlformats.org/officeDocument/2006/relationships/slide" Target="slides/slide56.xml"/><Relationship Id="rId77" Type="http://schemas.openxmlformats.org/officeDocument/2006/relationships/slide" Target="slides/slide57.xml"/><Relationship Id="rId78" Type="http://schemas.openxmlformats.org/officeDocument/2006/relationships/slide" Target="slides/slide58.xml"/><Relationship Id="rId7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"/>
          <p:cNvSpPr/>
          <p:nvPr/>
        </p:nvSpPr>
        <p:spPr>
          <a:xfrm>
            <a:off x="0" y="0"/>
            <a:ext cx="67932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dt" idx="52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 type="ftr" idx="53"/>
          </p:nvPr>
        </p:nvSpPr>
        <p:spPr>
          <a:xfrm>
            <a:off x="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6"/>
          <p:cNvSpPr>
            <a:spLocks noGrp="1"/>
          </p:cNvSpPr>
          <p:nvPr>
            <p:ph type="sldNum" idx="54"/>
          </p:nvPr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2A95C8-CDA7-4CB6-9277-BF2D75C5D61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Slide Number Placeholder 3"/>
          <p:cNvSpPr/>
          <p:nvPr/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D562632-6DE3-4901-B036-D3713A8EB42B}" type="slidenum">
              <a:rPr b="0" lang="en-GB" sz="1200" spc="-1" strike="noStrike">
                <a:solidFill>
                  <a:srgbClr val="8f210b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Slide Number Placeholder 3"/>
          <p:cNvSpPr/>
          <p:nvPr/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0C0606D-6BFB-4594-837F-617877D756F7}" type="slidenum">
              <a:rPr b="0" lang="en-GB" sz="1200" spc="-1" strike="noStrike">
                <a:solidFill>
                  <a:srgbClr val="8f210b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9591-FE61-4414-93AC-EA75F1265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296B-12DE-40FA-86CD-D46E2D8C2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631D71-C697-4611-A825-3F8D4F7E5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0FB533-1C2C-421E-8D07-1D5F477B0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0C0903-C5FA-4FFB-B8BA-E4C7B7575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5A9F99-0661-43F7-AC86-D85AD892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59C523-4C78-44CE-A75D-C9A057EDB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A1D0B4-945A-4967-8661-F4756E72D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37AE39-682C-4612-B428-3CA6A4363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A10075-D0FF-4316-B36D-9E7F51CAB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E35C80-D4AD-4D92-8E6B-1C37CB05C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6304C4-0CB5-4045-A672-2DE08A250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1647-B26F-4828-98FB-4EC876E28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7C21A4-8F42-4218-848B-EF0552149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2546D6-05F6-4D93-AC88-295AD3B87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46CAD7-10AA-4377-A1E6-2F33B921E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367E49-E3E4-47AF-ACC0-56BCE4A72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556DB6-DAE0-4D7B-837B-8F8042A34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3C5F1D-93B2-4483-ACF8-34273AE2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7F67DD-93C7-4E13-823A-BDB3CF194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C145A8-F205-488B-960D-288728627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1B823C-F882-49E2-BC36-98FED79F1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79E229-7AA3-4019-A357-42F981E00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9A7C-4A24-4F8F-B5DA-0F7DB20F5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C79E51-8175-4780-8A4F-EBE27DF96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B87F47-374F-46FD-824A-05DF8B30E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ADB54D-F210-4BDB-8EFB-74EFAB110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6D07FA-F222-4CE6-9055-5A8326606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1D91D6-8C14-4692-810D-49AB423FD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2EB85B-BA48-4A9B-B7EF-429D37BF7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D82326-5852-46E0-90B7-905C5F5BF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7FFB7F-1BB6-4B22-A727-8076E68F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9F7275-8AE7-4EC3-84F6-146FE06F9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D85BEE-7083-4F16-8C3B-554F82EA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FE230C-EA38-450E-89EA-1403495E6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EAC6E0-78C8-4BC8-94F5-28B5EB3A8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B92228-D263-4E23-A57B-0008C1681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87C5E7-AD96-4229-80D8-D926C938E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64EB2E-0322-4E36-955A-72DA89AF6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50E8EC-6276-4E4E-89C3-A091ECFF5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E7728F-CA9C-4A79-9CB0-3B22439E5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20F8B0-7BB8-4670-88A6-79691446C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FCA750-D160-4906-98CD-83EBD60E4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1E2781-6225-4455-BE6F-DCEC4BAE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2229CA-C7AC-43EA-A936-1B4350E4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9C6DA0-DCA6-49E1-BCBB-79669D293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BEF4C9-7897-40F2-B31C-0ADD59A4A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7BB745-DADA-466A-8CB9-5812E01B2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2D2C86-9389-4333-AAA6-14C9545DA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BE49C7-98F3-4078-8A08-E1670AE45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662137-63CA-4A6B-B56B-FFE733317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5AC087-4E26-44AB-A7D4-5C7B99EF9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C34EA1-34FA-4546-8213-C429E9509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49A29D-38AA-4F4F-9F9D-92AC1E9DC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7DA03B-35AC-4E48-B49A-A81C49ACE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868C55-F030-45A8-B5EE-2F6C799F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CB9FB2-4DCD-4ABC-B1BA-BADB265A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196683-1A11-43B7-ABC9-5F3C9318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F4BDC0-83E0-485A-866F-124C2FE1B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0B403D-A9D6-49E0-9C26-CFADBBF43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A1729F-2020-4E24-94E9-3EACFD176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3F3F9A-97A0-47B3-B15C-9F925E8E5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FD234B-3E47-4BDF-BEF9-540ABC2B9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32A4A0-5C05-4851-AF98-F1A5D58F9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B531FC-96CF-45CE-B7CB-03D048A5B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8D3B2B-103B-4D16-B670-AF7DBC0AC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03620F-575D-4D32-93FF-AF5B1C459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28DBE5-D7A7-433C-922D-49D3A4BBC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76B9CC-FE9B-4EE3-BE93-E006E1BB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FCCF4C-E227-4C6F-A375-732A33E27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F4CA14-5F91-419D-AC30-0F6C03898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C38A5B-B572-4E63-957E-5A9A96DFE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7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8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457755-DAC6-422E-98FA-BF79D3128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921E8D-FE79-4BBB-8A06-373B2F27F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6F0AAA-5B2A-40BC-A46E-18F90CE90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803668-625D-475F-9C49-27A863598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3852BE-86C3-4F74-B462-1E199750D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B0116D-8399-4EF7-9AD2-57AB7F31D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1B6568-1007-468E-A3C1-A917725E5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F0B7C6-9960-42CE-A656-CF226192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F9AE45-7AA8-4A41-A2C8-11C58C65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AA8EC8-0F5E-447F-92D1-0BF0256E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8A7B39-CF43-4F99-8EAA-579E63B0C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43612A-BAA0-4E0D-BAE0-67BC3CA69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D9F3D6-A827-4A77-87B4-203BCE4AA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2C8948-5CED-4850-BCDB-EEF154BA6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915DEF-A71C-4E9F-9083-E32207709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83560E-E232-4885-831F-2B1841F03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10F7A5-B6D4-48D5-BD2B-A9F66538A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6A7058-B962-4EC8-A361-52517D539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13C564-3F88-4A79-94E1-FCD4C5605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F835AE-1736-4670-8C3D-73FBE6572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D9F62F-D007-42F9-B9FB-08827375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04D3E4-0E99-4FDF-A61F-9D6250457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184BF4-4164-4D4E-B700-093EF1D51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33B8F2-8363-40B3-BE6D-E72A1BCA9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9FEC1D-FFFC-4FBF-B3C9-31E6DEE4A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09A8BB-3F01-4806-AEF4-B4C14D996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E68017-3F27-4874-8C55-578AB073D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9C169B-9666-417F-B352-D1C770D25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DF2EBF-61BD-4DF7-A5A6-1106BCDFF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2346AC-1E4F-4EED-B8A1-16C133873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91BBF8-972E-41E7-8687-92E1489E7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A3AFE9-FCA8-4454-B397-9A866DEE5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63F4-BDF4-4A39-A3B5-007F3105B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5987D8-CC29-4499-9189-AF20BD316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0056E0-5F3E-412E-8CD6-BF4BA2B5F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CB223E-FE40-4F92-9709-E3DC97F53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597205-FCD8-4AE4-823C-2E940C16E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1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2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7A121A-46E2-424F-9468-C94D00607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79E338-51A7-4F35-AC88-DF07E4DBF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27DB81-6501-4FA8-A63E-BC731E3D8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8A5FF6-B033-4FEF-8219-161FE3F2B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49AAC5-6DAA-4117-A0C1-4110FA9D4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87BF6B-AEF1-43F3-8A58-B39D14E17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25A205-B319-4B7E-964B-8CF7300FC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052223-6A1D-4E0F-B5F0-FE494F0E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8127B0-7902-45A6-9B01-C67E146E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B77B8C-31F2-4183-AC75-151B6B6D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4C8082-42EC-4A46-A236-7C800A7DE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D0BDBB-74ED-43E0-AA2B-A6F67282B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9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0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CEEEA8-95B7-48E1-9DF0-6377CD4F9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9F13-08ED-4700-A8C0-8BBF10075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EDB5-9469-4EF1-81E2-2EEC6AA68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BD57A-9A6F-47AC-BABC-605119936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F2B3-2B4F-4641-9EA4-233FF1F20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CF800-9521-46E1-9837-889F2D02E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454D8-468D-45DD-81BD-6EC2D0A52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D1B2E-214D-416E-B131-3904E1ECD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F7049-601B-45B1-A514-D9E5D7F69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66601-B071-44ED-A9D6-27A5FB810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A5651-F88B-4200-8815-502360A6B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29899-51DC-4F38-B45E-45EEE2B0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996D2-16F7-490C-BE19-6552420AD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C1C82-E26B-4625-9665-AD7107F3E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8A014-371E-48D0-A717-C9DBB1C14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1820-6BD2-412B-B079-B1D4653F9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68B23-32D5-4972-9B2B-5C61F425E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A63BB2-F61D-4FBB-BC38-B9909E8A0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740F5-5647-4D4C-BE16-8C5163222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ADAFFE-D01A-4748-B07E-F7AC315D3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B31BB1-3D35-4507-B51D-6481376FB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6F377-DE59-49DE-8BE2-7A6F14DB3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D6DC90-050E-4984-9F92-AFFB88D1E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1BF1F1-9690-4C47-B1B7-DCF63D19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DB3B98-07F5-46AA-B64B-BDCE837A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09B321-F21A-4A99-8233-D5C1DD011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2A4C-8320-4D84-A684-A73605A7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7FA05D-EA01-425A-A381-C8AB0D9AF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745738-7428-41DB-8C76-4EAEA1D4E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47351A-C484-4BC6-8F75-B8088A278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CD50FA-4986-4E49-BC3B-8BEA9CB46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0FBC2F-136E-4995-B175-7D00C4568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F9E0F0-46D5-47DB-B423-E309F1B85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A4A6C2-E98C-4810-932B-22C835D84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E7C596-E4DA-494A-A50B-C2B6052CF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4D2459-4321-45CC-A9B6-C057576AA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AD9EF0-8805-41C7-901E-E506ECFA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EF9C-BDD3-4421-AA54-D59F000B2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3DF6B4-020E-4D1B-A91E-5371A567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48B29B-871F-42D0-9D52-72A20AD17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1CDA2C-F592-4FC8-90A5-EC43E3760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CBDFB7-0BAC-4364-B72F-35217E5E1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D04191-3E1D-4B7F-A8A5-53CC1FF12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6D71BE-F302-4166-A9F0-23CB9C0C2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FE1BAB-4480-48A2-BBA2-171FC674D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DD0C03-FFA1-424C-BE75-79D0BD1AB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9B4CC0-82A5-4BF5-957A-80EFCD06D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8B1118-CE75-4551-8893-6C7591F1F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0350-C5D2-4E35-919C-4116FD8F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57B0A8-239A-4252-97D8-D9029E1FA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71F742-1EFA-4D9A-8CB9-7CA5EDDF2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16ABEB-6D9B-4C72-A2F7-A991211A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92714A-32E8-4511-A6CB-ACBCF1B4F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2578F1-7244-45A0-BCBC-112497037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A09E81-034C-4543-960B-1B713E317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45DC23-E506-4939-B815-37B72124D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8B8C4F-EC3B-45D6-97D0-1B03075A6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7B5EFA-7747-45CC-B27C-EEA0E7AD3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DE406B-6978-4398-A28C-B2DDC6638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1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9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20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1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2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3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4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5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6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7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8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9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0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1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2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3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4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35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25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26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27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1559F-4D26-4AE8-AD46-F499B3FF445B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78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79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0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1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2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3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4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5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6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7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8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9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0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1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2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93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dt" idx="28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ftr" idx="29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 type="sldNum" idx="30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454C1-51D4-4F65-8E4F-3EA69DCB03E3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3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651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dt" idx="3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 type="ftr" idx="3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 type="sldNum" idx="3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F5054-9937-4180-B03A-D26F08020AED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3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94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5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6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7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8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9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0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1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2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3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4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5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6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7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8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09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 type="dt" idx="3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 type="ftr" idx="3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 type="sldNum" idx="36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1B906-8940-490E-A64E-600AC034E48C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1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752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3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4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5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6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7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8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9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0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1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2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3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4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5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6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67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dt" idx="37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 type="ftr" idx="38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 type="sldNum" idx="39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BFBDB-E408-4303-8F6F-F8EED1DA9953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9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10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1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2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3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4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5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6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7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8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9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0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1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2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3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4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25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dt" idx="4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ftr" idx="4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sldNum" idx="4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AB94F-24E5-4D6C-A3BC-3087AB5864C3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7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68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69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0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1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2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3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4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5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6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7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8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9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0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1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2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83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 type="dt" idx="4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 type="ftr" idx="4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 type="sldNum" idx="4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CF986-D33A-4983-8B98-BCE7744A9AC7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2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2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2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2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941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 type="dt" idx="4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 type="ftr" idx="4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 type="sldNum" idx="4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93501-DCA5-4A9C-A6AE-DDCC6942F580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3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84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5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6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7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8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9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0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1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2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3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4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5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6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7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8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999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 type="dt" idx="4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 type="ftr" idx="5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 type="sldNum" idx="5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0FDD2-DF85-4B08-8AF3-24EE9EB19F47}" type="slidenum">
              <a:rPr b="0" lang="en-GB" sz="1000" spc="-1" strike="noStrike">
                <a:solidFill>
                  <a:srgbClr val="8f210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4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1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31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73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4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5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6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7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8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9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0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1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2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3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4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5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6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7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88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8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9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30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1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2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3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4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5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6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7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8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9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0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1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2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3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4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45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36A02-6425-4DFB-8C58-8344232B8CD8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88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89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0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1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2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3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4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5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6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7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8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9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0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1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2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03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C6564-8E22-42D1-8A4E-F10EA633C5AB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34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4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4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4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61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1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1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1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330BE-8C96-4828-82C4-D9E3F91DFEEF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3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04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5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6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7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8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9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0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1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2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3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4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5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6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7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8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19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1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2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07766-C60D-4CA3-804E-BAE821E9AE87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62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3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4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5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6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7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8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9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0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1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2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3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4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5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6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77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22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23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24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D76D8-51D3-43AE-B69F-F1B107B3CDC2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8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9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9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9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9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9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9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9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9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4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BinomialConfidence" TargetMode="External"/><Relationship Id="rId2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kappa" TargetMode="External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4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4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hyperlink" Target="http://imaging.mrc-cbu.cam.ac.uk/statswiki/FAQ/BinomialConfidence/2gpp" TargetMode="External"/><Relationship Id="rId3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9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9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4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A496D-474C-4468-A46E-EE543BCFF2A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990720" y="2438280"/>
            <a:ext cx="841680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</a:t>
            </a: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 </a:t>
            </a:r>
            <a:br>
              <a:rPr sz="3600"/>
            </a:br>
            <a:r>
              <a:rPr b="0" lang="en-GB" sz="3600" spc="-1" strike="noStrike">
                <a:solidFill>
                  <a:srgbClr val="8f210b"/>
                </a:solidFill>
                <a:latin typeface="Albertus Medium"/>
              </a:rPr>
              <a:t>Graduate Statistics Course 2019</a:t>
            </a:r>
            <a:br>
              <a:rPr sz="3600"/>
            </a:br>
            <a:r>
              <a:rPr b="0" lang="en-US" sz="1800" spc="-1" strike="noStrike">
                <a:solidFill>
                  <a:srgbClr val="515f7b"/>
                </a:solidFill>
                <a:latin typeface="Verdana"/>
              </a:rPr>
              <a:t>http://imaging.mrc-cbu.cam.ac.uk/statswiki/StatsCourse2019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D5EDE-494F-4FA9-BEC0-CFD6237CE42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s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bservations are classified according to some sche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numbers of observations falling into each category of the classification are called the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E08AA-4FCE-46C0-8E6D-4FD72AD7AFB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isual Field Deficit Problems in Hemiplegic Patien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02" name="Picture 4" descr=""/>
          <p:cNvPicPr/>
          <p:nvPr/>
        </p:nvPicPr>
        <p:blipFill>
          <a:blip r:embed="rId1"/>
          <a:stretch/>
        </p:blipFill>
        <p:spPr>
          <a:xfrm>
            <a:off x="3943440" y="1844640"/>
            <a:ext cx="343692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4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5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FE511-5BA0-49D9-AC57-FA434D0F7B7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07" name="Line 10"/>
          <p:cNvSpPr/>
          <p:nvPr/>
        </p:nvSpPr>
        <p:spPr>
          <a:xfrm flipH="1" flipV="1">
            <a:off x="6436800" y="2895120"/>
            <a:ext cx="908280" cy="762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95360" y="2133720"/>
            <a:ext cx="536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ut the variable that holds the category information into the Variables(s) bo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ess OK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09" name="Picture 14" descr=""/>
          <p:cNvPicPr/>
          <p:nvPr/>
        </p:nvPicPr>
        <p:blipFill>
          <a:blip r:embed="rId1"/>
          <a:stretch/>
        </p:blipFill>
        <p:spPr>
          <a:xfrm>
            <a:off x="5611680" y="2362320"/>
            <a:ext cx="412596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718BB-ED2B-4240-B90F-28B3AA0238B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14" name="Picture 4" descr=""/>
          <p:cNvPicPr/>
          <p:nvPr/>
        </p:nvPicPr>
        <p:blipFill>
          <a:blip r:embed="rId1"/>
          <a:stretch/>
        </p:blipFill>
        <p:spPr>
          <a:xfrm>
            <a:off x="1155600" y="1981080"/>
            <a:ext cx="8417160" cy="23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BEE65-9438-4809-8DF1-BBFDDA2CAAA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Bar ch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ing ‘Bar Chart’ from the ‘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arts’ options gives you a graphic which you can cut and past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20" name="Picture 10" descr=""/>
          <p:cNvPicPr/>
          <p:nvPr/>
        </p:nvPicPr>
        <p:blipFill>
          <a:blip r:embed="rId1"/>
          <a:stretch/>
        </p:blipFill>
        <p:spPr>
          <a:xfrm>
            <a:off x="5199120" y="2057400"/>
            <a:ext cx="412596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46AFE-9D6C-4067-9A54-8A4A666133E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tingency Table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	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329760" y="2017800"/>
            <a:ext cx="507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tems are classified by two or more classifications simultaneous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.g.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ide of Damag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and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everity of Visual Field Defici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rosstab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Side of Damage’ and ‘Visual Field Deficit’ to define the row/column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26" name="Picture 4" descr=""/>
          <p:cNvPicPr/>
          <p:nvPr/>
        </p:nvPicPr>
        <p:blipFill>
          <a:blip r:embed="rId1"/>
          <a:stretch/>
        </p:blipFill>
        <p:spPr>
          <a:xfrm>
            <a:off x="5599080" y="2205000"/>
            <a:ext cx="412596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1F934-6FB7-40EF-9CB3-10C4874F85F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1" name="Picture 4" descr=""/>
          <p:cNvPicPr/>
          <p:nvPr/>
        </p:nvPicPr>
        <p:blipFill>
          <a:blip r:embed="rId1"/>
          <a:stretch/>
        </p:blipFill>
        <p:spPr>
          <a:xfrm>
            <a:off x="1155600" y="2286000"/>
            <a:ext cx="8417160" cy="2262240"/>
          </a:xfrm>
          <a:prstGeom prst="rect">
            <a:avLst/>
          </a:prstGeom>
          <a:ln w="0">
            <a:noFill/>
          </a:ln>
        </p:spPr>
      </p:pic>
      <p:sp>
        <p:nvSpPr>
          <p:cNvPr id="1132" name="Text Box 6"/>
          <p:cNvSpPr/>
          <p:nvPr/>
        </p:nvSpPr>
        <p:spPr>
          <a:xfrm>
            <a:off x="1238400" y="4876920"/>
            <a:ext cx="79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looks as if there may be more VFD in RBD than in LB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4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5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FDCBB-B5F4-4BD6-8818-7A043CE24DF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nalysing a frequency table directly from the 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1"/>
          <a:stretch/>
        </p:blipFill>
        <p:spPr>
          <a:xfrm>
            <a:off x="4951440" y="1981080"/>
            <a:ext cx="4125960" cy="4114800"/>
          </a:xfrm>
          <a:prstGeom prst="rect">
            <a:avLst/>
          </a:prstGeom>
          <a:ln w="0">
            <a:noFill/>
          </a:ln>
        </p:spPr>
      </p:pic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577440" y="2133360"/>
            <a:ext cx="41259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Sometimes the observations have already been aggregated into frequenci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nter the frequencies for each cells of the table, identified by the levels of the classifying factors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.g. Lexical Decis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Type: {1 = Word , 2 = Nonword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Outcome: {1 = ‘Word’ , 2 = ‘Nonword’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y count for response ‘Word’ to Word items is 8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ies are stored in the variable called ‘freq’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0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1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FC098-6ED3-424F-B301-0B6A293C261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Weight Cases’ to analys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43" name="Picture 3" descr=""/>
          <p:cNvPicPr/>
          <p:nvPr/>
        </p:nvPicPr>
        <p:blipFill>
          <a:blip r:embed="rId1"/>
          <a:stretch/>
        </p:blipFill>
        <p:spPr>
          <a:xfrm>
            <a:off x="4621320" y="2057400"/>
            <a:ext cx="4125960" cy="1417680"/>
          </a:xfrm>
          <a:prstGeom prst="rect">
            <a:avLst/>
          </a:prstGeom>
          <a:ln w="0">
            <a:noFill/>
          </a:ln>
        </p:spPr>
      </p:pic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659880" y="2286000"/>
            <a:ext cx="4125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variable ‘freq’ contains the frequencie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4C01E-BDFD-4C39-8B35-FF785B7C758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Crosstabs’ to  generat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660240" y="2286000"/>
            <a:ext cx="4368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ross-classification by ‘typ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Stimulus = {Word, Non-word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d by ‘outcom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esponse = {‘Word’, Non-word’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50" name="Picture 6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29084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610E0-B72B-4EAC-A60E-A9A51CC579D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4: Categorical Data Analysi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6" name="Text Box 1029"/>
          <p:cNvSpPr/>
          <p:nvPr/>
        </p:nvSpPr>
        <p:spPr>
          <a:xfrm>
            <a:off x="1320840" y="2362320"/>
            <a:ext cx="8169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f210b"/>
                </a:solidFill>
                <a:latin typeface="Albertus Medium"/>
              </a:rPr>
              <a:t>Categorical Data, Contingency Tables and the Pearson Chi-Squared Statistic</a:t>
            </a:r>
            <a:endParaRPr b="0" lang="en-US" sz="3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7" name="Text Box 1030"/>
          <p:cNvSpPr/>
          <p:nvPr/>
        </p:nvSpPr>
        <p:spPr>
          <a:xfrm>
            <a:off x="1486080" y="3505320"/>
            <a:ext cx="7839000" cy="27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25 October 2018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cd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70FBB-5BDA-4062-8AE9-F4142BB0859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mple use of SPSS 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55" name="Picture 3" descr=""/>
          <p:cNvPicPr/>
          <p:nvPr/>
        </p:nvPicPr>
        <p:blipFill>
          <a:blip r:embed="rId1"/>
          <a:stretch/>
        </p:blipFill>
        <p:spPr>
          <a:xfrm>
            <a:off x="5281560" y="2590920"/>
            <a:ext cx="3979800" cy="1463400"/>
          </a:xfrm>
          <a:prstGeom prst="rect">
            <a:avLst/>
          </a:prstGeom>
          <a:ln w="0">
            <a:noFill/>
          </a:ln>
        </p:spPr>
      </p:pic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77440" y="213372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ord recognition looks quite good (8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Non-word rejection is low (5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C5500-0C72-4BDD-B5A7-8F6983C1248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Goodness-of-Fit Chi-squared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ppose we have a Theor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.e. a ‘model’ that predicts the expected frequencies (E) in each categ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actually observe the frequencies (O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measure how good a fit the data are to the theory by the formula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= </a:t>
            </a:r>
            <a:r>
              <a:rPr b="0" lang="en-US" sz="3200" spc="-1" strike="noStrike">
                <a:solidFill>
                  <a:srgbClr val="8f210b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O-E)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/E where the sum is over all th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is called Pearson’s Chi-Squared Statist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DDE78-DF86-4D59-AAA1-681516376F0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ifica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arge values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uggest the model doesn’t fit the data wel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leads to Goodness-of-fit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look at the value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see whether it is unusually large by reference to a </a:t>
            </a:r>
            <a:r>
              <a:rPr b="0" lang="en-US" sz="36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38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-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istribution with k-1 degrees-of-freedom where k is the number of categories in the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D697E-4800-4F24-BBAE-044912C4AED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Degrees of Freedom’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 elusive concept that occurs throughout statistics. In essence it means the number of independent pieces of information in a sample relevant to the estimation of some parameters or calculation of a statisti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or example in a two-by-two contingency table with a given set of marginal totals only 1 of the cells at a time is ‘free’ -- once it is specified all the others are determined -- and the table thus has a single degree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important point here is we can only interpret X</a:t>
            </a:r>
            <a:r>
              <a:rPr b="0" lang="en-US" sz="2000" spc="-1" strike="noStrike" baseline="4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f we also know its degrees of freedom, as we see later when we look at the chi-squared distribution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F4F23-EBCE-404E-8FDC-D7714587E89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Degrees of Freedom = 1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76" name=""/>
          <p:cNvGraphicFramePr/>
          <p:nvPr/>
        </p:nvGraphicFramePr>
        <p:xfrm>
          <a:off x="1281240" y="2017800"/>
          <a:ext cx="8416800" cy="4114800"/>
        </p:xfrm>
        <a:graphic>
          <a:graphicData uri="http://schemas.openxmlformats.org/drawingml/2006/table">
            <a:tbl>
              <a:tblPr/>
              <a:tblGrid>
                <a:gridCol w="2805120"/>
                <a:gridCol w="2806560"/>
                <a:gridCol w="2805120"/>
              </a:tblGrid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3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-3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3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2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B89D9-7B59-43F8-AE5D-4EFB8F3AE30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Degrees of Freedom = 4 (#rows-1) times (#cols -1)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81" name=""/>
          <p:cNvGraphicFramePr/>
          <p:nvPr/>
        </p:nvGraphicFramePr>
        <p:xfrm>
          <a:off x="487440" y="2017800"/>
          <a:ext cx="9210600" cy="4114800"/>
        </p:xfrm>
        <a:graphic>
          <a:graphicData uri="http://schemas.openxmlformats.org/drawingml/2006/table">
            <a:tbl>
              <a:tblPr/>
              <a:tblGrid>
                <a:gridCol w="2303280"/>
                <a:gridCol w="2301840"/>
                <a:gridCol w="2303640"/>
                <a:gridCol w="2301840"/>
              </a:tblGrid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-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u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2-x-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7-y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+y+u+v-9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3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2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2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11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3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4C154-168E-45EA-9799-F213E7B0185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olman, Ritchie and Kalish (1946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41324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ce learning in ra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1187" name="Group 1062"/>
          <p:cNvGrpSpPr/>
          <p:nvPr/>
        </p:nvGrpSpPr>
        <p:grpSpPr>
          <a:xfrm>
            <a:off x="914400" y="2971800"/>
            <a:ext cx="3341880" cy="3263760"/>
            <a:chOff x="914400" y="2971800"/>
            <a:chExt cx="3341880" cy="3263760"/>
          </a:xfrm>
        </p:grpSpPr>
        <p:grpSp>
          <p:nvGrpSpPr>
            <p:cNvPr id="1188" name="Group 1058"/>
            <p:cNvGrpSpPr/>
            <p:nvPr/>
          </p:nvGrpSpPr>
          <p:grpSpPr>
            <a:xfrm>
              <a:off x="914400" y="2971800"/>
              <a:ext cx="3341880" cy="2819160"/>
              <a:chOff x="914400" y="2971800"/>
              <a:chExt cx="3341880" cy="2819160"/>
            </a:xfrm>
          </p:grpSpPr>
          <p:sp>
            <p:nvSpPr>
              <p:cNvPr id="1189" name="Oval 1033"/>
              <p:cNvSpPr/>
              <p:nvPr/>
            </p:nvSpPr>
            <p:spPr>
              <a:xfrm>
                <a:off x="914400" y="4267080"/>
                <a:ext cx="1447920" cy="1523880"/>
              </a:xfrm>
              <a:prstGeom prst="ellipse">
                <a:avLst/>
              </a:pr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0" name="AutoShape 1034"/>
              <p:cNvSpPr/>
              <p:nvPr/>
            </p:nvSpPr>
            <p:spPr>
              <a:xfrm>
                <a:off x="1524240" y="2971800"/>
                <a:ext cx="1904760" cy="1295280"/>
              </a:xfrm>
              <a:custGeom>
                <a:avLst/>
                <a:gdLst>
                  <a:gd name="textAreaLeft" fmla="*/ 1095120 w 1904760"/>
                  <a:gd name="textAreaRight" fmla="*/ 1841400 w 1904760"/>
                  <a:gd name="textAreaTop" fmla="*/ 290520 h 1295280"/>
                  <a:gd name="textAreaBottom" fmla="*/ 438120 h 129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8078" y="0"/>
                    </a:lnTo>
                    <a:lnTo>
                      <a:pt x="18078" y="4846"/>
                    </a:lnTo>
                    <a:lnTo>
                      <a:pt x="12427" y="4846"/>
                    </a:lnTo>
                    <a:cubicBezTo>
                      <a:pt x="5564" y="4846"/>
                      <a:pt x="0" y="8120"/>
                      <a:pt x="0" y="12158"/>
                    </a:cubicBezTo>
                    <a:lnTo>
                      <a:pt x="0" y="21600"/>
                    </a:lnTo>
                    <a:lnTo>
                      <a:pt x="2521" y="21600"/>
                    </a:lnTo>
                    <a:lnTo>
                      <a:pt x="2521" y="12158"/>
                    </a:lnTo>
                    <a:cubicBezTo>
                      <a:pt x="2521" y="9482"/>
                      <a:pt x="6956" y="7312"/>
                      <a:pt x="12427" y="7312"/>
                    </a:cubicBezTo>
                    <a:lnTo>
                      <a:pt x="18078" y="7312"/>
                    </a:lnTo>
                    <a:lnTo>
                      <a:pt x="18078" y="12158"/>
                    </a:lnTo>
                    <a:lnTo>
                      <a:pt x="21600" y="6079"/>
                    </a:lnTo>
                    <a:close/>
                  </a:path>
                </a:pathLst>
              </a:cu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1" name="Text Box 1035"/>
              <p:cNvSpPr/>
              <p:nvPr/>
            </p:nvSpPr>
            <p:spPr>
              <a:xfrm>
                <a:off x="3094560" y="3047760"/>
                <a:ext cx="1161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f210b"/>
                    </a:solidFill>
                    <a:latin typeface="Albertus Medium"/>
                  </a:rPr>
                  <a:t>Food</a:t>
                </a: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2" name="Text Box 1057"/>
              <p:cNvSpPr/>
              <p:nvPr/>
            </p:nvSpPr>
            <p:spPr>
              <a:xfrm>
                <a:off x="1467000" y="320040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A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</p:grpSp>
        <p:sp>
          <p:nvSpPr>
            <p:cNvPr id="1193" name="Text Box 1060"/>
            <p:cNvSpPr/>
            <p:nvPr/>
          </p:nvSpPr>
          <p:spPr>
            <a:xfrm>
              <a:off x="2142000" y="5715000"/>
              <a:ext cx="162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buClr>
                  <a:srgbClr val="a3ce82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f210b"/>
                  </a:solidFill>
                  <a:latin typeface="Albertus Medium"/>
                </a:rPr>
                <a:t>Phase 1</a:t>
              </a: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grpSp>
        <p:nvGrpSpPr>
          <p:cNvPr id="1194" name="Group 1067"/>
          <p:cNvGrpSpPr/>
          <p:nvPr/>
        </p:nvGrpSpPr>
        <p:grpSpPr>
          <a:xfrm>
            <a:off x="4469760" y="2590920"/>
            <a:ext cx="5128200" cy="3582720"/>
            <a:chOff x="4469760" y="2590920"/>
            <a:chExt cx="5128200" cy="3582720"/>
          </a:xfrm>
        </p:grpSpPr>
        <p:grpSp>
          <p:nvGrpSpPr>
            <p:cNvPr id="1195" name="Group 1064"/>
            <p:cNvGrpSpPr/>
            <p:nvPr/>
          </p:nvGrpSpPr>
          <p:grpSpPr>
            <a:xfrm>
              <a:off x="4572000" y="2590920"/>
              <a:ext cx="5025960" cy="3582720"/>
              <a:chOff x="4572000" y="2590920"/>
              <a:chExt cx="5025960" cy="3582720"/>
            </a:xfrm>
          </p:grpSpPr>
          <p:sp>
            <p:nvSpPr>
              <p:cNvPr id="1196" name="Text Box 1046"/>
              <p:cNvSpPr/>
              <p:nvPr/>
            </p:nvSpPr>
            <p:spPr>
              <a:xfrm>
                <a:off x="7696080" y="3886200"/>
                <a:ext cx="19018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D: New alley to original food source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grpSp>
            <p:nvGrpSpPr>
              <p:cNvPr id="1197" name="Group 1063"/>
              <p:cNvGrpSpPr/>
              <p:nvPr/>
            </p:nvGrpSpPr>
            <p:grpSpPr>
              <a:xfrm>
                <a:off x="4572000" y="2590920"/>
                <a:ext cx="3798720" cy="3582720"/>
                <a:chOff x="4572000" y="2590920"/>
                <a:chExt cx="3798720" cy="3582720"/>
              </a:xfrm>
            </p:grpSpPr>
            <p:grpSp>
              <p:nvGrpSpPr>
                <p:cNvPr id="1198" name="Group 1059"/>
                <p:cNvGrpSpPr/>
                <p:nvPr/>
              </p:nvGrpSpPr>
              <p:grpSpPr>
                <a:xfrm>
                  <a:off x="4572000" y="2590920"/>
                  <a:ext cx="3798720" cy="3352680"/>
                  <a:chOff x="4572000" y="2590920"/>
                  <a:chExt cx="3798720" cy="3352680"/>
                </a:xfrm>
              </p:grpSpPr>
              <p:sp>
                <p:nvSpPr>
                  <p:cNvPr id="1199" name="Oval 1038"/>
                  <p:cNvSpPr/>
                  <p:nvPr/>
                </p:nvSpPr>
                <p:spPr>
                  <a:xfrm>
                    <a:off x="4876560" y="4419720"/>
                    <a:ext cx="1447920" cy="1523880"/>
                  </a:xfrm>
                  <a:prstGeom prst="ellipse">
                    <a:avLst/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0" name="AutoShape 1040"/>
                  <p:cNvSpPr/>
                  <p:nvPr/>
                </p:nvSpPr>
                <p:spPr>
                  <a:xfrm rot="20100000">
                    <a:off x="4952520" y="3809880"/>
                    <a:ext cx="380880" cy="762120"/>
                  </a:xfrm>
                  <a:prstGeom prst="upArrow">
                    <a:avLst>
                      <a:gd name="adj1" fmla="val 46259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1" name="AutoShape 1041"/>
                  <p:cNvSpPr/>
                  <p:nvPr/>
                </p:nvSpPr>
                <p:spPr>
                  <a:xfrm rot="1500000">
                    <a:off x="5943600" y="38095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2" name="AutoShape 1042"/>
                  <p:cNvSpPr/>
                  <p:nvPr/>
                </p:nvSpPr>
                <p:spPr>
                  <a:xfrm>
                    <a:off x="5467320" y="37051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3" name="AutoShape 1043"/>
                  <p:cNvSpPr/>
                  <p:nvPr/>
                </p:nvSpPr>
                <p:spPr>
                  <a:xfrm rot="2700000">
                    <a:off x="6666840" y="3086280"/>
                    <a:ext cx="457200" cy="2057400"/>
                  </a:xfrm>
                  <a:prstGeom prst="upArrow">
                    <a:avLst>
                      <a:gd name="adj1" fmla="val 50000"/>
                      <a:gd name="adj2" fmla="val 11250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4" name="Text Box 1045"/>
                  <p:cNvSpPr/>
                  <p:nvPr/>
                </p:nvSpPr>
                <p:spPr>
                  <a:xfrm>
                    <a:off x="7209000" y="3352680"/>
                    <a:ext cx="11617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Food</a:t>
                    </a: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5" name="Text Box 1047"/>
                  <p:cNvSpPr/>
                  <p:nvPr/>
                </p:nvSpPr>
                <p:spPr>
                  <a:xfrm>
                    <a:off x="5505480" y="3276720"/>
                    <a:ext cx="326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A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6" name="Text Box 1048"/>
                  <p:cNvSpPr/>
                  <p:nvPr/>
                </p:nvSpPr>
                <p:spPr>
                  <a:xfrm>
                    <a:off x="6103080" y="3505320"/>
                    <a:ext cx="3254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C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7" name="Text Box 1049"/>
                  <p:cNvSpPr/>
                  <p:nvPr/>
                </p:nvSpPr>
                <p:spPr>
                  <a:xfrm>
                    <a:off x="4572000" y="3505320"/>
                    <a:ext cx="460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8" name="Text Box 1052"/>
                  <p:cNvSpPr/>
                  <p:nvPr/>
                </p:nvSpPr>
                <p:spPr>
                  <a:xfrm>
                    <a:off x="7465680" y="3048120"/>
                    <a:ext cx="3484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9" name="Line 1053"/>
                  <p:cNvSpPr/>
                  <p:nvPr/>
                </p:nvSpPr>
                <p:spPr>
                  <a:xfrm flipH="1" flipV="1">
                    <a:off x="7009920" y="4114800"/>
                    <a:ext cx="685800" cy="53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10" name="Text Box 1054"/>
                  <p:cNvSpPr/>
                  <p:nvPr/>
                </p:nvSpPr>
                <p:spPr>
                  <a:xfrm>
                    <a:off x="5140800" y="2590920"/>
                    <a:ext cx="10296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locke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11" name="Line 1056"/>
                  <p:cNvSpPr/>
                  <p:nvPr/>
                </p:nvSpPr>
                <p:spPr>
                  <a:xfrm>
                    <a:off x="5410080" y="2895480"/>
                    <a:ext cx="228600" cy="838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</p:grpSp>
            <p:sp>
              <p:nvSpPr>
                <p:cNvPr id="1212" name="Text Box 1061"/>
                <p:cNvSpPr/>
                <p:nvPr/>
              </p:nvSpPr>
              <p:spPr>
                <a:xfrm>
                  <a:off x="6210720" y="5653080"/>
                  <a:ext cx="1629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700"/>
                    </a:spcBef>
                    <a:buClr>
                      <a:srgbClr val="a3ce82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f210b"/>
                      </a:solidFill>
                      <a:latin typeface="Albertus Medium"/>
                    </a:rPr>
                    <a:t>Phase 2</a:t>
                  </a:r>
                  <a:endParaRPr b="0" lang="en-US" sz="2800" spc="-1" strike="noStrike">
                    <a:solidFill>
                      <a:srgbClr val="8f210b"/>
                    </a:solidFill>
                    <a:latin typeface="Albertus Medium"/>
                  </a:endParaRPr>
                </a:p>
              </p:txBody>
            </p:sp>
          </p:grpSp>
        </p:grpSp>
        <p:sp>
          <p:nvSpPr>
            <p:cNvPr id="1213" name="Text Box 1065"/>
            <p:cNvSpPr/>
            <p:nvPr/>
          </p:nvSpPr>
          <p:spPr>
            <a:xfrm>
              <a:off x="4469760" y="31860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4" name="Text Box 1066"/>
            <p:cNvSpPr/>
            <p:nvPr/>
          </p:nvSpPr>
          <p:spPr>
            <a:xfrm>
              <a:off x="5954040" y="32004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82F52-9D16-4219-91B0-DF3B1E1B97C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Goodness of Fit Test by han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1280880" y="3123720"/>
            <a:ext cx="812628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olman, Ritchie and Kalish (1946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=(4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8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1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 = 9.2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e 95% percentile of the 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(3) distribution is 7.82 (from table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 &lt; 0.0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xact P = 0.026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499"/>
              </a:spcBef>
              <a:spcAft>
                <a:spcPts val="499"/>
              </a:spcAft>
              <a:buClr>
                <a:srgbClr val="a3dc96"/>
              </a:buClr>
              <a:buSzPct val="50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f210b"/>
                </a:solidFill>
                <a:latin typeface="Albertus Medium"/>
              </a:rPr>
              <a:t>Via MATLAB: 1-chi2cdf(9.25,3)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We reject the Null Hypothesis that Alleys are chosen equiprobably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220" name="Object 1030"/>
          <p:cNvGraphicFramePr/>
          <p:nvPr/>
        </p:nvGraphicFramePr>
        <p:xfrm>
          <a:off x="1733400" y="1981080"/>
          <a:ext cx="4125960" cy="248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21" name="Object 10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3400" y="1981080"/>
                    <a:ext cx="4125960" cy="24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71C53-FF65-4AF6-AF49-D16355E1853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lley’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1,2,3,4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hoices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4,5,8,1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27" name="Picture 1031" descr=""/>
          <p:cNvPicPr/>
          <p:nvPr/>
        </p:nvPicPr>
        <p:blipFill>
          <a:blip r:embed="rId1"/>
          <a:stretch/>
        </p:blipFill>
        <p:spPr>
          <a:xfrm>
            <a:off x="5694480" y="2133720"/>
            <a:ext cx="318744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E3BAF-D625-436C-A8C4-575B2680080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ive the alleys lab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1 = ‘A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2 = ‘B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33" name="Picture 5" descr=""/>
          <p:cNvPicPr/>
          <p:nvPr/>
        </p:nvPicPr>
        <p:blipFill>
          <a:blip r:embed="rId1"/>
          <a:stretch/>
        </p:blipFill>
        <p:spPr>
          <a:xfrm>
            <a:off x="6024600" y="2209680"/>
            <a:ext cx="2701800" cy="12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43844-B92F-4CBD-A3B7-33219AA423C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The Naming of P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ategorical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requency Tab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Goodness-of-Fit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Distribu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Binomial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test for associ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son, Cohen and McNema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DFC8B-781D-4DB0-91B0-CB9855DC62C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choices’ as this contains the frequency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39" name="Picture 1030" descr=""/>
          <p:cNvPicPr/>
          <p:nvPr/>
        </p:nvPicPr>
        <p:blipFill>
          <a:blip r:embed="rId1"/>
          <a:stretch/>
        </p:blipFill>
        <p:spPr>
          <a:xfrm>
            <a:off x="5364000" y="2514600"/>
            <a:ext cx="397044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1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2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77F3F-FFE3-4DCD-B9D7-C41F75D2779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hi-squar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hypothetical probabiliti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 the expected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45" name="Picture 5" descr=""/>
          <p:cNvPicPr/>
          <p:nvPr/>
        </p:nvPicPr>
        <p:blipFill>
          <a:blip r:embed="rId1"/>
          <a:stretch/>
        </p:blipFill>
        <p:spPr>
          <a:xfrm>
            <a:off x="4951440" y="1371600"/>
            <a:ext cx="4019400" cy="2327400"/>
          </a:xfrm>
          <a:prstGeom prst="rect">
            <a:avLst/>
          </a:prstGeom>
          <a:ln w="0">
            <a:noFill/>
          </a:ln>
        </p:spPr>
      </p:pic>
      <p:pic>
        <p:nvPicPr>
          <p:cNvPr id="1246" name="Picture 6" descr=""/>
          <p:cNvPicPr/>
          <p:nvPr/>
        </p:nvPicPr>
        <p:blipFill>
          <a:blip r:embed="rId2"/>
          <a:stretch/>
        </p:blipFill>
        <p:spPr>
          <a:xfrm>
            <a:off x="4648320" y="3429000"/>
            <a:ext cx="501336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8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9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46260-78D1-4849-B3D2-A123B05E247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from Chi-Square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51" name="Rectangle 4"/>
          <p:cNvSpPr/>
          <p:nvPr/>
        </p:nvSpPr>
        <p:spPr>
          <a:xfrm>
            <a:off x="2313360" y="1981080"/>
            <a:ext cx="25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-Square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52" name="Picture 5" descr=""/>
          <p:cNvPicPr/>
          <p:nvPr/>
        </p:nvPicPr>
        <p:blipFill>
          <a:blip r:embed="rId1"/>
          <a:stretch/>
        </p:blipFill>
        <p:spPr>
          <a:xfrm>
            <a:off x="2394000" y="2590920"/>
            <a:ext cx="3870360" cy="1636560"/>
          </a:xfrm>
          <a:prstGeom prst="rect">
            <a:avLst/>
          </a:prstGeom>
          <a:ln w="0">
            <a:noFill/>
          </a:ln>
        </p:spPr>
      </p:pic>
      <p:pic>
        <p:nvPicPr>
          <p:cNvPr id="1253" name="Picture 6" descr=""/>
          <p:cNvPicPr/>
          <p:nvPr/>
        </p:nvPicPr>
        <p:blipFill>
          <a:blip r:embed="rId2"/>
          <a:stretch/>
        </p:blipFill>
        <p:spPr>
          <a:xfrm>
            <a:off x="2394000" y="4419720"/>
            <a:ext cx="3662280" cy="14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AEE4E-774E-4592-9C7C-391370D46A2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(</a:t>
            </a:r>
            <a:r>
              <a:rPr b="0" lang="en-US" sz="4400" spc="-1" strike="noStrike">
                <a:solidFill>
                  <a:srgbClr val="515f7b"/>
                </a:solidFill>
                <a:latin typeface="Symbol"/>
                <a:ea typeface="Symbol"/>
              </a:rPr>
              <a:t></a:t>
            </a:r>
            <a:r>
              <a:rPr b="0" lang="en-US" sz="4000" spc="-1" strike="noStrike" baseline="38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) Distribution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58" name="Picture 7" descr="chisquared"/>
          <p:cNvPicPr/>
          <p:nvPr/>
        </p:nvPicPr>
        <p:blipFill>
          <a:blip r:embed="rId1"/>
          <a:stretch/>
        </p:blipFill>
        <p:spPr>
          <a:xfrm>
            <a:off x="4703760" y="2057400"/>
            <a:ext cx="5010120" cy="3429000"/>
          </a:xfrm>
          <a:prstGeom prst="rect">
            <a:avLst/>
          </a:prstGeom>
          <a:ln w="0">
            <a:noFill/>
          </a:ln>
        </p:spPr>
      </p:pic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hape determined by ‘degrees of freedom’ (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J-shaped for df = 1 or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nimodal for df &gt;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ode = df - 2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 = df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5C48B-28B3-4DF3-9EA6-E5661057B4F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 performance and 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a multiple choice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-alternative forced choice (2AF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p(error) =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AFC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0.25, p(error) = 0.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as the subject just guessing when she got 14/20 in a 2AFC tes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D1B95-6239-41E1-BD5D-00235C48E9A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12920" y="213372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Binomial Tes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70" name="Picture 5" descr=""/>
          <p:cNvPicPr/>
          <p:nvPr/>
        </p:nvPicPr>
        <p:blipFill>
          <a:blip r:embed="rId1"/>
          <a:stretch/>
        </p:blipFill>
        <p:spPr>
          <a:xfrm>
            <a:off x="4869000" y="2590920"/>
            <a:ext cx="439416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2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3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085CD-1578-4882-9031-A271E0F6EC8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of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75" name="Picture 3" descr=""/>
          <p:cNvPicPr/>
          <p:nvPr/>
        </p:nvPicPr>
        <p:blipFill>
          <a:blip r:embed="rId1"/>
          <a:stretch/>
        </p:blipFill>
        <p:spPr>
          <a:xfrm>
            <a:off x="2228760" y="2133720"/>
            <a:ext cx="6297840" cy="1261800"/>
          </a:xfrm>
          <a:prstGeom prst="rect">
            <a:avLst/>
          </a:prstGeom>
          <a:ln w="0">
            <a:noFill/>
          </a:ln>
        </p:spPr>
      </p:pic>
      <p:sp>
        <p:nvSpPr>
          <p:cNvPr id="1276" name="Text Box 4"/>
          <p:cNvSpPr/>
          <p:nvPr/>
        </p:nvSpPr>
        <p:spPr>
          <a:xfrm>
            <a:off x="1303200" y="3952800"/>
            <a:ext cx="7691400" cy="23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data (14/20) are consistent with chance performanc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nfidence interval approach can be a more informative altern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8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9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74E58-BB31-4012-A1EC-622616D1E00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fidence Intervals for Binomial Proportion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1" name="Text Box 4"/>
          <p:cNvSpPr/>
          <p:nvPr/>
        </p:nvSpPr>
        <p:spPr>
          <a:xfrm>
            <a:off x="907920" y="2438280"/>
            <a:ext cx="76914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X=14, N=20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ALD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99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901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ILSON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81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855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Consistent with the P values, the Confidence Interval only </a:t>
            </a:r>
            <a:r>
              <a:rPr b="1" i="1" lang="en-US" sz="2000" spc="-1" strike="noStrike">
                <a:solidFill>
                  <a:srgbClr val="000000"/>
                </a:solidFill>
                <a:latin typeface="Albertus Medium"/>
              </a:rPr>
              <a:t>just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 includes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(Calculated using a spreadsheet available on the CBU statistics website at </a:t>
            </a:r>
            <a:r>
              <a:rPr b="1" lang="en-US" sz="1600" spc="-1" strike="noStrike" u="sng">
                <a:solidFill>
                  <a:srgbClr val="a3ce82"/>
                </a:solidFill>
                <a:uFillTx/>
                <a:latin typeface="Times New Roman"/>
                <a:hlinkClick r:id="rId1"/>
              </a:rPr>
              <a:t>http://imaging.mrc-cbu.cam.ac.uk/statswiki/FAQ/BinomialConfidence</a:t>
            </a: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. which also features a similar solution to the difference in two (in)dependent propor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70497-F277-47D7-9602-35316A30EEF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oah’s Ark, </a:t>
            </a: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or The World of Two by Two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arson’s Chi-square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ates’ Continuity Correc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sher’s Exact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dds and Odds Ratio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log odds and log odds ratio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nsitivity and Specific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erd Gigerenzer (2002).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Reckoning with Risk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Pengui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ignal Detection The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87" name="Picture 6" descr=""/>
          <p:cNvPicPr/>
          <p:nvPr/>
        </p:nvPicPr>
        <p:blipFill>
          <a:blip r:embed="rId1"/>
          <a:stretch/>
        </p:blipFill>
        <p:spPr>
          <a:xfrm>
            <a:off x="7467480" y="2743200"/>
            <a:ext cx="1197000" cy="18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9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0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F7C16-82B8-4FB6-8BC0-386AD9D5EC1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al Detection Theor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92" name="Picture 3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3921120" cy="2654280"/>
          </a:xfrm>
          <a:prstGeom prst="rect">
            <a:avLst/>
          </a:prstGeom>
          <a:ln w="0">
            <a:noFill/>
          </a:ln>
        </p:spPr>
      </p:pic>
      <p:sp>
        <p:nvSpPr>
          <p:cNvPr id="1293" name="Text Box 4"/>
          <p:cNvSpPr/>
          <p:nvPr/>
        </p:nvSpPr>
        <p:spPr>
          <a:xfrm>
            <a:off x="457200" y="259092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Example 2a from Macmillan &amp; Creelman, 1991, p.3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94" name="Picture 5" descr=""/>
          <p:cNvPicPr/>
          <p:nvPr/>
        </p:nvPicPr>
        <p:blipFill>
          <a:blip r:embed="rId2"/>
          <a:stretch/>
        </p:blipFill>
        <p:spPr>
          <a:xfrm>
            <a:off x="1905120" y="4724280"/>
            <a:ext cx="3665520" cy="13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7D917-C30B-4B4C-85C4-0A596F50FD2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PSS procedures that help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information about one classification at a tim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ROSSTAB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bined information about more than one classifica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HI-SQUA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paring observed frequencies with hypothetical on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BINOMI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testing whether performance differs from ‘chance’ </a:t>
            </a:r>
            <a:r>
              <a:rPr b="0" i="1" lang="en-US" sz="1400" spc="-1" strike="noStrike">
                <a:solidFill>
                  <a:srgbClr val="8f210b"/>
                </a:solidFill>
                <a:latin typeface="Albertus Medium"/>
              </a:rPr>
              <a:t>(whatever that is)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6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7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9F07C-803E-411B-AE05-8138D83D370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ensitivity and Specificit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esting for the presence of a Disease in a person from a popul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nsitivity: Probability that a Positive result means when the Disease is present - P(+|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ecificity: Probability that a person who tests Positive has the Disease – P(D|+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nfluenced by the Prevalence of the Disease in the population: P(D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See Martin Bland: An Introduction to Medical Statistic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ay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82FC5-58CE-4563-8746-DFA0EE6617A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05" name="Object 0"/>
          <p:cNvGraphicFramePr/>
          <p:nvPr/>
        </p:nvGraphicFramePr>
        <p:xfrm>
          <a:off x="3135240" y="2895480"/>
          <a:ext cx="4656240" cy="263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5240" y="2895480"/>
                    <a:ext cx="4656240" cy="26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7" name="Text Box 5"/>
          <p:cNvSpPr/>
          <p:nvPr/>
        </p:nvSpPr>
        <p:spPr>
          <a:xfrm>
            <a:off x="1403280" y="510552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New treatment is positively associated with recovery (Recovery rate 10.6% vs 4.8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627FE-8AD9-4444-8C51-8CECEEC2288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13" name="Object 4"/>
          <p:cNvGraphicFramePr/>
          <p:nvPr/>
        </p:nvGraphicFramePr>
        <p:xfrm>
          <a:off x="3500280" y="2898720"/>
          <a:ext cx="4884840" cy="262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0280" y="2898720"/>
                    <a:ext cx="4884840" cy="26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5" name="Text Box 5"/>
          <p:cNvSpPr/>
          <p:nvPr/>
        </p:nvSpPr>
        <p:spPr>
          <a:xfrm>
            <a:off x="1403280" y="5181480"/>
            <a:ext cx="8155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gain, the New treatment is positively associated with recovery (Recovery rate 98.8% vs 67.2%)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6E0B1-BD32-4544-A563-1F64794952A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bined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21" name="Object 4"/>
          <p:cNvGraphicFramePr/>
          <p:nvPr/>
        </p:nvGraphicFramePr>
        <p:xfrm>
          <a:off x="4381560" y="2819520"/>
          <a:ext cx="4113000" cy="311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560" y="2819520"/>
                    <a:ext cx="4113000" cy="31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3" name="Text Box 5"/>
          <p:cNvSpPr/>
          <p:nvPr/>
        </p:nvSpPr>
        <p:spPr>
          <a:xfrm>
            <a:off x="1403280" y="518148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en combined, the New treatment is negatively associated with recovery (Recovery rate 35.8% vs 57.9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3DD9F-8FA7-4335-A0CE-95DADAD6680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impson’s Paradox explaine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328" name="Object 5"/>
          <p:cNvGraphicFramePr/>
          <p:nvPr/>
        </p:nvGraphicFramePr>
        <p:xfrm>
          <a:off x="343080" y="2133720"/>
          <a:ext cx="5016240" cy="381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2133720"/>
                    <a:ext cx="501624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0" name="Text Box 7"/>
          <p:cNvSpPr/>
          <p:nvPr/>
        </p:nvSpPr>
        <p:spPr>
          <a:xfrm>
            <a:off x="5599080" y="2637000"/>
            <a:ext cx="396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end points of the in-between line are differently weighted averages of the end points of the upper and lower lin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E537A-DC63-4204-9FA5-AA4EC049EB7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agreemen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Kapp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judges rate items on the same categorical sca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ow well do they agre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Crosstabs with two classifying variable having the sam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Kappa under the Statistics op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imaging.mrc-cbu.cam.ac.uk/statswiki/FAQ/kapp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Alternative kappa (Brennan and Prediger, 198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7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8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6B319-22C0-4B55-A373-534AFF369E7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1568520" y="4038480"/>
            <a:ext cx="73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% Agreement is 21/30 = 70% but could be high due to cha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41" name="Picture 5" descr=""/>
          <p:cNvPicPr/>
          <p:nvPr/>
        </p:nvPicPr>
        <p:blipFill>
          <a:blip r:embed="rId1"/>
          <a:stretch/>
        </p:blipFill>
        <p:spPr>
          <a:xfrm>
            <a:off x="3135240" y="2057400"/>
            <a:ext cx="4127400" cy="1490760"/>
          </a:xfrm>
          <a:prstGeom prst="rect">
            <a:avLst/>
          </a:prstGeom>
          <a:ln w="0">
            <a:noFill/>
          </a:ln>
        </p:spPr>
      </p:pic>
      <p:sp>
        <p:nvSpPr>
          <p:cNvPr id="1342" name="Oval 6"/>
          <p:cNvSpPr/>
          <p:nvPr/>
        </p:nvSpPr>
        <p:spPr>
          <a:xfrm>
            <a:off x="8915400" y="1219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3" name="Oval 7"/>
          <p:cNvSpPr/>
          <p:nvPr/>
        </p:nvSpPr>
        <p:spPr>
          <a:xfrm>
            <a:off x="5045040" y="28432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4" name="Oval 8"/>
          <p:cNvSpPr/>
          <p:nvPr/>
        </p:nvSpPr>
        <p:spPr>
          <a:xfrm>
            <a:off x="5646600" y="298764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5" name="Oval 9"/>
          <p:cNvSpPr/>
          <p:nvPr/>
        </p:nvSpPr>
        <p:spPr>
          <a:xfrm>
            <a:off x="6248520" y="3124080"/>
            <a:ext cx="152280" cy="1526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7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8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26D36-01A5-4E83-ADF6-CEA80FCFB53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-corrected 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350" name="Picture 6" descr=""/>
          <p:cNvPicPr/>
          <p:nvPr/>
        </p:nvPicPr>
        <p:blipFill>
          <a:blip r:embed="rId1"/>
          <a:stretch/>
        </p:blipFill>
        <p:spPr>
          <a:xfrm>
            <a:off x="1981080" y="2819520"/>
            <a:ext cx="5305680" cy="1360440"/>
          </a:xfrm>
          <a:prstGeom prst="rect">
            <a:avLst/>
          </a:prstGeom>
          <a:ln w="0">
            <a:noFill/>
          </a:ln>
        </p:spPr>
      </p:pic>
      <p:sp>
        <p:nvSpPr>
          <p:cNvPr id="1351" name="Text Box 7"/>
          <p:cNvSpPr/>
          <p:nvPr/>
        </p:nvSpPr>
        <p:spPr>
          <a:xfrm>
            <a:off x="495360" y="4876920"/>
            <a:ext cx="818676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ohen’s Kappa (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= 0.473) is chance-corrected: 47.3%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reement between the judges is well above chance, but is it good enough?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5F1BD-BCC9-454F-836A-8BC4BD1F960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chang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1320840" y="1980720"/>
            <a:ext cx="841680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patient with acquired dyslexia does a 40 item picture naming task twice at a 6 month interv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7" name="Rectangle 5"/>
          <p:cNvSpPr/>
          <p:nvPr/>
        </p:nvSpPr>
        <p:spPr>
          <a:xfrm>
            <a:off x="1403280" y="4836960"/>
            <a:ext cx="8417160" cy="14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ccuracy falls from 19/40 to 11/4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s this a real deterioration, noting that 28/40 items show no change across the two test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58" name="Picture 6" descr=""/>
          <p:cNvPicPr/>
          <p:nvPr/>
        </p:nvPicPr>
        <p:blipFill>
          <a:blip r:embed="rId1"/>
          <a:stretch/>
        </p:blipFill>
        <p:spPr>
          <a:xfrm>
            <a:off x="3382920" y="3352680"/>
            <a:ext cx="3565440" cy="1463760"/>
          </a:xfrm>
          <a:prstGeom prst="rect">
            <a:avLst/>
          </a:prstGeom>
          <a:ln w="0">
            <a:noFill/>
          </a:ln>
        </p:spPr>
      </p:pic>
      <p:sp>
        <p:nvSpPr>
          <p:cNvPr id="1359" name="Oval 7"/>
          <p:cNvSpPr/>
          <p:nvPr/>
        </p:nvSpPr>
        <p:spPr>
          <a:xfrm>
            <a:off x="5073480" y="417528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0" name="Oval 8"/>
          <p:cNvSpPr/>
          <p:nvPr/>
        </p:nvSpPr>
        <p:spPr>
          <a:xfrm>
            <a:off x="5765760" y="43354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48C0A-D21A-4D5D-BB89-A26185C6DB2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4825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is is specifically designed for this type of hypothesi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quivalent to a Binomial Test (with p=0.5) of Freq(Correct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rror) vs. Freq(Error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Correct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In this case 10 vs. 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66" name="Picture 4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3951360" cy="2838240"/>
          </a:xfrm>
          <a:prstGeom prst="rect">
            <a:avLst/>
          </a:prstGeom>
          <a:ln w="0">
            <a:noFill/>
          </a:ln>
        </p:spPr>
      </p:pic>
      <p:pic>
        <p:nvPicPr>
          <p:cNvPr id="1367" name="Picture 5" descr=""/>
          <p:cNvPicPr/>
          <p:nvPr/>
        </p:nvPicPr>
        <p:blipFill>
          <a:blip r:embed="rId2"/>
          <a:stretch/>
        </p:blipFill>
        <p:spPr>
          <a:xfrm>
            <a:off x="1066680" y="4191120"/>
            <a:ext cx="3565800" cy="1463400"/>
          </a:xfrm>
          <a:prstGeom prst="rect">
            <a:avLst/>
          </a:prstGeom>
          <a:ln w="0">
            <a:noFill/>
          </a:ln>
        </p:spPr>
      </p:pic>
      <p:sp>
        <p:nvSpPr>
          <p:cNvPr id="1368" name="Oval 7"/>
          <p:cNvSpPr/>
          <p:nvPr/>
        </p:nvSpPr>
        <p:spPr>
          <a:xfrm>
            <a:off x="3405240" y="49687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9" name="Oval 8"/>
          <p:cNvSpPr/>
          <p:nvPr/>
        </p:nvSpPr>
        <p:spPr>
          <a:xfrm>
            <a:off x="2717640" y="51325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1D535-5EDF-4486-A891-817A46DED54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nt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umerical measurements or cou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ntinuous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Reaction time, BOLD signal, EEG signal,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iscrete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ole numbers, like numbers of errors, marks in an exam …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4A49B-B264-46ED-87C4-ADCACAE7C7D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12560" y="1981080"/>
            <a:ext cx="482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this case we can assert that there is evidence of deterior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75" name="Picture 6" descr=""/>
          <p:cNvPicPr/>
          <p:nvPr/>
        </p:nvPicPr>
        <p:blipFill>
          <a:blip r:embed="rId1"/>
          <a:stretch/>
        </p:blipFill>
        <p:spPr>
          <a:xfrm>
            <a:off x="5281560" y="2057400"/>
            <a:ext cx="4446720" cy="1289160"/>
          </a:xfrm>
          <a:prstGeom prst="rect">
            <a:avLst/>
          </a:prstGeom>
          <a:ln w="0">
            <a:noFill/>
          </a:ln>
        </p:spPr>
      </p:pic>
      <p:sp>
        <p:nvSpPr>
          <p:cNvPr id="1376" name="Rectangle 7"/>
          <p:cNvSpPr/>
          <p:nvPr/>
        </p:nvSpPr>
        <p:spPr>
          <a:xfrm>
            <a:off x="271440" y="4076640"/>
            <a:ext cx="8612280" cy="18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obtain confidence intervals for the difference in proportions: </a:t>
            </a:r>
            <a:r>
              <a:rPr b="0" lang="en-GB" sz="2000" spc="-1" strike="noStrike" u="sng">
                <a:solidFill>
                  <a:srgbClr val="a3ce82"/>
                </a:solidFill>
                <a:uFillTx/>
                <a:latin typeface="Albertus Medium"/>
                <a:hlinkClick r:id="rId2"/>
              </a:rPr>
              <a:t>http://imaging.mrc-cbu.cam.ac.uk/statswiki/FAQ/BinomialConfidence/2gp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lso McNemar-Bowker tests for changes in times in a k x k table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131CF-782A-4999-B7DD-B439942A1CB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hi-squared test of associ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paring two or more classified sampl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esting whether the frequencies for one classification depend on the category of another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nly to be used when the numbers in the cells are frequencies, never with proportions, percentages or measureme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E36DB-B865-454C-8D7E-477B8BE7F00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412920" y="22096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s Side of Lesion associated with Sex of Patien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Frequencies and then ‘Chi-square’ and ‘Phi’ under Statistics, and  ‘Exact’ under Exact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87" name="Picture 5" descr=""/>
          <p:cNvPicPr/>
          <p:nvPr/>
        </p:nvPicPr>
        <p:blipFill>
          <a:blip r:embed="rId1"/>
          <a:stretch/>
        </p:blipFill>
        <p:spPr>
          <a:xfrm>
            <a:off x="4869000" y="2286000"/>
            <a:ext cx="495144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6FE31-C982-4108-941C-15B7940131E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Output ...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329760" y="3962160"/>
            <a:ext cx="41259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any above-chance association between Sex and Side of Les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93" name="Picture 5" descr=""/>
          <p:cNvPicPr/>
          <p:nvPr/>
        </p:nvPicPr>
        <p:blipFill>
          <a:blip r:embed="rId1"/>
          <a:stretch/>
        </p:blipFill>
        <p:spPr>
          <a:xfrm>
            <a:off x="3630600" y="1905120"/>
            <a:ext cx="6083280" cy="2157120"/>
          </a:xfrm>
          <a:prstGeom prst="rect">
            <a:avLst/>
          </a:prstGeom>
          <a:ln w="0">
            <a:noFill/>
          </a:ln>
        </p:spPr>
      </p:pic>
      <p:pic>
        <p:nvPicPr>
          <p:cNvPr id="1394" name="Picture 6" descr=""/>
          <p:cNvPicPr/>
          <p:nvPr/>
        </p:nvPicPr>
        <p:blipFill>
          <a:blip r:embed="rId2"/>
          <a:stretch/>
        </p:blipFill>
        <p:spPr>
          <a:xfrm>
            <a:off x="4621320" y="4114800"/>
            <a:ext cx="4811760" cy="1646280"/>
          </a:xfrm>
          <a:prstGeom prst="rect">
            <a:avLst/>
          </a:prstGeom>
          <a:ln w="0">
            <a:noFill/>
          </a:ln>
        </p:spPr>
      </p:pic>
      <p:sp>
        <p:nvSpPr>
          <p:cNvPr id="1395" name="Rectangle 7"/>
          <p:cNvSpPr/>
          <p:nvPr/>
        </p:nvSpPr>
        <p:spPr>
          <a:xfrm>
            <a:off x="382680" y="5734080"/>
            <a:ext cx="9007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derive confidence intervals for difference in proportio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inomialConfidence/2g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EA8A6-6E43-441D-BACE-DC48A777C26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Larger tabl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wo way tables can be analysed the same wa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ree- (or more)  way classifications need a more analytical approach such as Log Linear Modelling, available with the Loglinear procedure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C9D99-8DA0-41B7-B289-F6614A38155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 3 x 3 Examp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05" name="Picture 5" descr=""/>
          <p:cNvPicPr/>
          <p:nvPr/>
        </p:nvPicPr>
        <p:blipFill>
          <a:blip r:embed="rId1"/>
          <a:stretch/>
        </p:blipFill>
        <p:spPr>
          <a:xfrm>
            <a:off x="247680" y="1981080"/>
            <a:ext cx="5010120" cy="1636920"/>
          </a:xfrm>
          <a:prstGeom prst="rect">
            <a:avLst/>
          </a:prstGeom>
          <a:ln w="0">
            <a:noFill/>
          </a:ln>
        </p:spPr>
      </p:pic>
      <p:pic>
        <p:nvPicPr>
          <p:cNvPr id="1406" name="Picture 6" descr=""/>
          <p:cNvPicPr/>
          <p:nvPr/>
        </p:nvPicPr>
        <p:blipFill>
          <a:blip r:embed="rId2"/>
          <a:stretch/>
        </p:blipFill>
        <p:spPr>
          <a:xfrm>
            <a:off x="5199120" y="2057400"/>
            <a:ext cx="3960720" cy="1920960"/>
          </a:xfrm>
          <a:prstGeom prst="rect">
            <a:avLst/>
          </a:prstGeom>
          <a:ln w="0">
            <a:noFill/>
          </a:ln>
        </p:spPr>
      </p:pic>
      <p:pic>
        <p:nvPicPr>
          <p:cNvPr id="1407" name="Picture 7" descr=""/>
          <p:cNvPicPr/>
          <p:nvPr/>
        </p:nvPicPr>
        <p:blipFill>
          <a:blip r:embed="rId3"/>
          <a:stretch/>
        </p:blipFill>
        <p:spPr>
          <a:xfrm>
            <a:off x="2146320" y="4267080"/>
            <a:ext cx="465300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A2E98-CE00-4659-ABB5-B972F409500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ooling of data can mislead, or even violate the assumptions of the tests (cf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imp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ach individual observation is supposed to be independent of the othe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 pooling multiple observations across a group of subjects will typically violate this rul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needs to be handled using either summary measures (e.g. Log Odds), Generalised Linear Mixed Models or Matched Pairs: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MatchedPai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D2839-6EB4-4F10-8BE7-4BBDAB4AF60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is conventional to be cautious if there are low  Expected values in any cell (e.g. E&lt;5)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research suggest this is overcautious, though use of Fisher’s Exact Test is recommended in the general case. Campbell (2007) however suggests (N-1/N) x chi-square for 2x2 tables with Expected Values &gt; 1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lternatively one can amalgamate across two or more categori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B043C-3B03-42BB-80B2-FF0F5CFFA32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ext week at 11am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OVA of balanced multi-factorial designs: between subject designs, and single subject studies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                                                                                             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5ADD8-0644-4DF7-802D-96773896E36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l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dinal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2D063-C108-4BC1-942C-9775E3F05C4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ominal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descriptive lab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utcome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rror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orrect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x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Fe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3F183-B582-4F54-8639-DAB30055A2F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From ICD-10: Chapter V: Mental and behavioural disorders</a:t>
            </a:r>
            <a:br>
              <a:rPr sz="2000"/>
            </a:br>
            <a:r>
              <a:rPr b="0" lang="en-US" sz="1400" spc="-1" strike="noStrike">
                <a:solidFill>
                  <a:srgbClr val="515f7b"/>
                </a:solidFill>
                <a:latin typeface="Albertus Medium"/>
              </a:rPr>
              <a:t>(International Statistical Classification of Diseases and Related Health Problems)</a:t>
            </a:r>
            <a:endParaRPr b="0" lang="en-US" sz="1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34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00-F99 - Mental and behaviour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-F09) Organic, including symptomatic, ment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.) Dementia in Alzheimer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) Vascular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1) Multi-infarct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) Dementia in other diseases classified elsewher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0) Dementia in Pick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1) Dementia in Creutzfeldt-Jakob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2) Dementia in Huntingt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3) Dementia in Parkins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4) Dementia in human immunodeficiency virus (HIV)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3.) Unspecified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4.) Organic amnesic syndrome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5.) Delirium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6.) Other mental disorders due to brain damage and dysfunction and to physical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7.) Personality and behavioural disorders due to brain disease, damage and dysfunc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9.) Unspecified organic or symptomatic mental disorder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C3A33-40DC-40F6-8C54-7289265747A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rdinal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ranged in an ord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ating scal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ndorsement of a statement: {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Neutral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Dis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disagre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g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e Group: {20+ to 30, 30+ to 40, 40+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osi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Birth order: {1st, 2nd, 3rd, 4th, ...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arget position: {Left, Central, Right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rial block: {1st, 2nd, 3rd, …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4-10-20T13:39:49Z</cp:lastPrinted>
  <dcterms:modified xsi:type="dcterms:W3CDTF">2021-09-29T12:16:41Z</dcterms:modified>
  <cp:revision>123</cp:revision>
  <dc:subject/>
  <dc:title>Aims and Objectives</dc:title>
</cp:coreProperties>
</file>